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8CF-E67D-49C3-A197-4EB42045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B55-3B8D-47F5-8024-0943B99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0C5-FCCA-48CE-A52E-244913FE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E8F-3064-41A6-9AB1-B4E3B50A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098-B74A-4D6D-85DC-C14901DA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EDB-D8A4-4C19-A611-5EDF9719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2E3-0494-4E61-9CD6-0281BE67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E7D-35C7-4D40-9CDF-3AF9E65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80A-E35B-4F7E-A517-910B984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1E5-9B6A-44B2-9D9C-E04B42C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C19-3FBD-4F2F-8D90-1861A061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EC9-5FA1-430A-B2EA-8CBE51C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FBBE-B7F7-43A4-9776-D0E19982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bc.co.uk/scotland/education/bitesize/standard/physics/waves/wave_definitions_rev3.s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bc.co.uk/scotland/education/bitesize/standard/physics/waves/wave_definitions_rev3.s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S Physical Sc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bc.co.uk/scotland/education/bitesize/standard/physics/waves/wave_definitions_rev1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 note on He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or water waves and sound waves the unit hertz is usually good enough but radio and TV waves have such a high frequency that the kilohertz (kHz) or even the megahertz (MHz) are better uni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peed (also called veloci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mbol  =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 how far the wave travels in a certa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ve speed is measured in meters per second (m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the electromagnetic waves travel at 300,000,000 meters per second (3 x 108 m/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und travels at about 340 meters per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33720" y="4229280"/>
            <a:ext cx="5257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ave relationshi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ave spe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en distance is measured in meters (m) and time in seconds (s), the speed is in meters per second (m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ave speed equation"/>
          <p:cNvPicPr/>
          <p:nvPr/>
        </p:nvPicPr>
        <p:blipFill>
          <a:blip r:embed="rId2"/>
          <a:stretch/>
        </p:blipFill>
        <p:spPr>
          <a:xfrm>
            <a:off x="685800" y="2895480"/>
            <a:ext cx="8153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23623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peed of s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e speed of sound is different for different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travel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st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solids and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low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gases such as 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ask – “What does it matter”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3476520"/>
            <a:ext cx="4419720" cy="338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s are carried b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itudina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w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articles of the medium vibrate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energy of the sound is carried.  (bottom diag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4495680"/>
            <a:ext cx="1752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lab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quish i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496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umans can hear sounds in the range 20 hertz to 20 000 hert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ange of hear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everyone can hear over all of this range - the numbers are only approximate. In particular the high frequency limit reduces with 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805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k:  Straw sounds lab &amp; test tube xyl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 and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Unwanted background sounds are sometimes called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en the sound level of this noise rises to higher levels, we refer to this as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 pollution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at is a w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272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ves ar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bration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moving from one plac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ve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arry energ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rom one plac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use waves carry energy, they can be used for communication (ex: radio and television waves) and to transmit sign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y typ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waves (sound, light, etc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levels are measured on a scale known as the decibel (dB) sc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number the greater is the sound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o much noise can damage he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90 decibel sound levels for a long time can cause permanent hearing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a brief sound level of 140 decibels will cause pain and can cause permanent damage to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urces of sounds and their db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1447920"/>
          <a:ext cx="7924680" cy="5027400"/>
        </p:xfrm>
        <a:graphic>
          <a:graphicData uri="http://schemas.openxmlformats.org/drawingml/2006/table">
            <a:tbl>
              <a:tblPr/>
              <a:tblGrid>
                <a:gridCol w="586728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rce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nd level in decib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ckground noise at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rmal t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ise pollution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neumatic drill - 5 metres a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 a club - 1 m from a loudspe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ltra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vibrations beyond the range of human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ultrasounds is greater than 20,000 hert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by means of longitudinal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medicine to break up kidney stones and gall stones. It is also used to create images of an unborn baby in a wom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at is a w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some types of waves,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edium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at carries them has to be matter, either solid, liquid or g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ter waves obviously have to travel in wat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und waves need a solid, a liquid or a gas to travel 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aves in the electromagnetic spectrum (light) do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need any matter to travel in, they are able to travel in a vacu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ransverse wa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articles of the medium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brate at right angl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the direction that the energy tra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is where the name transverse comes from - it means '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'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of the electromagnetic waves are transverse waves, as are water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llustration of transverse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itudinal wa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waves are longitudinal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energy travels along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particles vib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type of wave is known as a longitudinal wave, so named because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ergy travels along the direction of vibr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the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llustration of longitudinal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Frequency, wavelength, amplitude and wave spe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ymbol is =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the distance from the center line (or the still position) to the top of a crest or to the bottom of a t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measured in meters (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greater the amplitude of a wave then the more energy it is carry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3830760"/>
            <a:ext cx="480060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ymbol is a Greek letter lambda = 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s the distance from any point on one wave to the same point on the next wave a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avelength is also measured in meters (m) - it is a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after all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971800"/>
            <a:ext cx="57909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ymbol is =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the number of waves passing a point in a certai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 normally use a time of one second, so this gives frequency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it hertz (Hz)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ince one hertz is equal to one wave per seco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51814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20:54Z</dcterms:created>
  <dc:creator>Staff</dc:creator>
  <dc:description/>
  <dc:language>en-US</dc:language>
  <cp:lastModifiedBy>SGANSK</cp:lastModifiedBy>
  <dcterms:modified xsi:type="dcterms:W3CDTF">2008-09-03T15:23:39Z</dcterms:modified>
  <cp:revision>7</cp:revision>
  <dc:subject/>
  <dc:title>Slide 1</dc:title>
</cp:coreProperties>
</file>